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871-E62D-43AE-B0EA-4C038695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885-D6CD-4214-B37C-7A7E0E89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8B6-0A43-4B35-A360-41ABAC13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F47-3EA9-44C5-B377-DA948383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001-AB5A-4709-A96D-2A576EFF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9B9-ACE1-4406-A2F9-3D6CE551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121-C28C-4CDA-8FED-D7D413BA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0FC-FF50-4C0B-A88F-C316F8EC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C75-1179-42D1-BABE-92973595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B9E-6F86-4351-AD4E-DF90952B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80D-1503-43CC-996D-C423070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328-9D69-4051-A758-2AD9C804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EC18-D2C6-4EA2-B428-6544019DB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760" y="2523960"/>
            <a:ext cx="85834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ne Vorlage aus denen ich meine Nummernschilder Ausgedruckt h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m besten lassen sich die Nummernschilder in einem Grafikprogramm bearbeiten, ich verwende dazu das Programm CorelDra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„Not“ geht natürlich auch Power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87480" y="736560"/>
          <a:ext cx="358488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7480" y="736560"/>
                    <a:ext cx="358488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" name=""/>
          <p:cNvGrpSpPr/>
          <p:nvPr/>
        </p:nvGrpSpPr>
        <p:grpSpPr>
          <a:xfrm>
            <a:off x="2822400" y="817560"/>
            <a:ext cx="279720" cy="627840"/>
            <a:chOff x="2822400" y="817560"/>
            <a:chExt cx="279720" cy="627840"/>
          </a:xfrm>
        </p:grpSpPr>
        <p:grpSp>
          <p:nvGrpSpPr>
            <p:cNvPr id="45" name=""/>
            <p:cNvGrpSpPr/>
            <p:nvPr/>
          </p:nvGrpSpPr>
          <p:grpSpPr>
            <a:xfrm>
              <a:off x="2822400" y="817560"/>
              <a:ext cx="279720" cy="284760"/>
              <a:chOff x="2822400" y="817560"/>
              <a:chExt cx="279720" cy="284760"/>
            </a:xfrm>
          </p:grpSpPr>
          <p:sp>
            <p:nvSpPr>
              <p:cNvPr id="46" name=""/>
              <p:cNvSpPr/>
              <p:nvPr/>
            </p:nvSpPr>
            <p:spPr>
              <a:xfrm>
                <a:off x="2835720" y="821160"/>
                <a:ext cx="262440" cy="281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822400" y="817560"/>
                <a:ext cx="279720" cy="280080"/>
                <a:chOff x="2822400" y="817560"/>
                <a:chExt cx="279720" cy="2800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935800" y="817560"/>
                  <a:ext cx="45360" cy="4536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999880" y="832680"/>
                  <a:ext cx="45360" cy="4500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035880" y="875520"/>
                  <a:ext cx="45000" cy="4536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880360" y="835920"/>
                  <a:ext cx="45000" cy="4500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844360" y="876960"/>
                  <a:ext cx="45360" cy="4500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057120" y="936720"/>
                  <a:ext cx="45000" cy="4500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039840" y="997560"/>
                  <a:ext cx="45000" cy="4536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000960" y="1035000"/>
                  <a:ext cx="45000" cy="4500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936520" y="1052640"/>
                  <a:ext cx="45000" cy="4500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840400" y="994680"/>
                  <a:ext cx="45000" cy="4500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880360" y="1033560"/>
                  <a:ext cx="45000" cy="4500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822400" y="934920"/>
                  <a:ext cx="45000" cy="4500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" name=""/>
            <p:cNvSpPr/>
            <p:nvPr/>
          </p:nvSpPr>
          <p:spPr>
            <a:xfrm>
              <a:off x="2887560" y="1201680"/>
              <a:ext cx="179280" cy="243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3013200" y="5140440"/>
          <a:ext cx="356868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3200" y="5140440"/>
                    <a:ext cx="35686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2381400" y="5219640"/>
            <a:ext cx="308520" cy="627840"/>
            <a:chOff x="2381400" y="5219640"/>
            <a:chExt cx="308520" cy="627840"/>
          </a:xfrm>
        </p:grpSpPr>
        <p:grpSp>
          <p:nvGrpSpPr>
            <p:cNvPr id="64" name=""/>
            <p:cNvGrpSpPr/>
            <p:nvPr/>
          </p:nvGrpSpPr>
          <p:grpSpPr>
            <a:xfrm>
              <a:off x="2381400" y="5219640"/>
              <a:ext cx="308520" cy="313200"/>
              <a:chOff x="2381400" y="5219640"/>
              <a:chExt cx="308520" cy="313200"/>
            </a:xfrm>
          </p:grpSpPr>
          <p:sp>
            <p:nvSpPr>
              <p:cNvPr id="65" name=""/>
              <p:cNvSpPr/>
              <p:nvPr/>
            </p:nvSpPr>
            <p:spPr>
              <a:xfrm>
                <a:off x="2396160" y="5223600"/>
                <a:ext cx="289080" cy="309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2381400" y="5219640"/>
                <a:ext cx="308520" cy="308160"/>
                <a:chOff x="2381400" y="5219640"/>
                <a:chExt cx="308520" cy="308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2506320" y="521964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576880" y="523620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616480" y="528336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45120" y="523980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405520" y="528516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640240" y="535068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620800" y="541764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577960" y="545904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507040" y="547812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401200" y="541440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445120" y="545724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381400" y="5348880"/>
                  <a:ext cx="49680" cy="49680"/>
                </a:xfrm>
                <a:prstGeom prst="star5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2446200" y="5603760"/>
              <a:ext cx="178920" cy="243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418880" y="655308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ww.kusebauch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1T15:25:54Z</dcterms:created>
  <dc:creator>Holger Kusebauch</dc:creator>
  <dc:description/>
  <dc:language>en-US</dc:language>
  <cp:lastModifiedBy>Holger Kusebauch</cp:lastModifiedBy>
  <dcterms:modified xsi:type="dcterms:W3CDTF">2002-12-13T17:47:36Z</dcterms:modified>
  <cp:revision>11</cp:revision>
  <dc:subject>Vorlagen</dc:subject>
  <dc:title>Nummernschilder</dc:title>
</cp:coreProperties>
</file>